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4C0-1A94-422A-8C99-98709CC7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AA6-7815-4B4A-8051-DDCFD168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593-30B6-46E8-A9B2-19279B21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F3C-A982-45CD-A4C5-9A10E58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B96-E030-4DB1-A136-D2B0B38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91A-5CE9-4F84-9AE2-C9562D87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D7D-D472-401E-8A75-F13C399E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1B8-A3A0-46FB-98F2-DF0AC13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DA7-57E6-423F-9BCF-C6AEF240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293-DE1F-4DCF-B2EC-CDEFDAA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BB1-3624-4866-AE8B-36434E5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315-9CBE-417B-9409-41AECEB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D2F-6536-462A-B87E-32EE8C7F5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ن عُمـقِ آثامـي دعـوتْ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صِتْ الى صوتِ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دعـــا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ا غيرَ وجهِـك ما رجـوت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لقاهُ مأدبــةُ رجــــا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581280" cy="14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هبْ من حنانِك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طر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تحـوّلُ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قفرُ وعو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و أعطِ عينيَ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دمعــ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وضها طفـلاً                                                                                                                                                                                                              أعـ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3581280" cy="90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ذا استبـدَّ بيَ                            الخجلْ أو أبكمَ العارُ فمـ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بضاتُ حُبِّـك فلتـَز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ـى النهايــةِ في د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17:20Z</dcterms:created>
  <dc:creator>SUZANNE.MD</dc:creator>
  <dc:description/>
  <dc:language>en-US</dc:language>
  <cp:lastModifiedBy>HANI SAFI</cp:lastModifiedBy>
  <dcterms:modified xsi:type="dcterms:W3CDTF">2003-03-14T12:24:33Z</dcterms:modified>
  <cp:revision>4</cp:revision>
  <dc:subject/>
  <dc:title>PowerPoint Presentation</dc:title>
</cp:coreProperties>
</file>